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9A1-3619-4226-A46C-DE741A81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237-D53A-4E2E-BF52-5034BAE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65B-835F-4885-B1D6-B17D4F5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7B5-4D24-452B-B823-68D74060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EA2-9D71-44A9-9678-09C69ABC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D68D-B4D5-47B4-BFBA-B9AF6C5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D88-061B-475C-9EC6-95E8D76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8794-DCB1-48FA-877D-5383A46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462-210D-4113-BAE3-A6E5D8A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0DD-2CB3-4BA7-96DD-9E74FF9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ECA-16B4-4C31-A417-7C6D60F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69A-BBDA-4998-90B3-53DEED2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CE2F-FA4A-4AD5-AEEC-F613F1C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AC9-9043-49A1-9494-D3FF9640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43AA-C23C-41B2-9FA4-109A1EC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C6E4-E03A-489C-A7D9-1DC4256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B3D9-B3C7-423E-AFCB-965D811F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808-E8E6-46ED-A860-4FCFA773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0AA-99E0-4D96-BD11-F81CAEB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D6A-EB1C-4618-A0AA-C8F19D2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CB0-93DC-445D-9D76-4B819AD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67E-841F-40A9-823D-885641B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A07-76D9-4911-9B70-39AD37C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89E-E3EC-430C-BA10-C5FAD42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DA86-9AF9-4011-9EFF-E5E0AB092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9BB7-0812-4120-BC97-67E748DA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nd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 1 Week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Frindle"/>
          <p:cNvPicPr/>
          <p:nvPr/>
        </p:nvPicPr>
        <p:blipFill>
          <a:blip r:embed="rId1"/>
          <a:stretch/>
        </p:blipFill>
        <p:spPr>
          <a:xfrm>
            <a:off x="6172200" y="152280"/>
            <a:ext cx="282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olutely important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ha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u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being stri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trait as seen by oth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licy of 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y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ship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ympic athle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tertained the possi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d great respect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441972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lov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playing in the out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nd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819520" y="3809880"/>
            <a:ext cx="3047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oma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eating that last cup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run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t bigg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05740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a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quain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the kid that was chosen as my part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st frie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i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said that our nex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signm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be a piece of 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se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048120" y="4495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said I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uarante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pot on the team in middle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rtain to happ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a pos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he follows the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du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arah’s cake will turn out delic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37339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12193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49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04920" y="54100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19720" y="1219320"/>
            <a:ext cx="373356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6483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6483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495680" y="5410080"/>
            <a:ext cx="37339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ething assigned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pecially work to be do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ople think and say the character of someone or something 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733920" y="6094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aware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forme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larger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creased in siz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33920" y="533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ys of proceeding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ethods of doing someth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de certain that something would happen as a resul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d great honor and reverence 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86200" y="762120"/>
            <a:ext cx="37339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16T18:25:10Z</dcterms:modified>
  <cp:revision>5</cp:revision>
  <dc:subject/>
  <dc:title>Frindle Vocabulary Words</dc:title>
</cp:coreProperties>
</file>